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E68-B18D-49B8-8ADC-7763F1B7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0CE-1725-4138-B1FF-DA6384EC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423-A9C7-4F38-B529-18EB2A09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FF6-14E7-48D5-B7B4-87D895E0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64F-F8FC-4202-B06C-A6FE6A93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EAA-32AD-45B0-B542-6E70688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DD9-E8A1-4D44-93E1-43C8DEA6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649-5EBE-4070-93EE-7F7D6110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52F-2216-4976-9A6E-71D8197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33B-F6D1-4EC0-B672-19E1345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1FB-02B4-4DA7-BC22-545E7B2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EDF-EFEF-4B3A-A6C6-833E514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0238-5378-48AB-BC14-0D9283185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itle2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 Extra Bold"/>
              </a:rPr>
              <a:t>Program and Portfolio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8991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David S.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Rockwell"/>
              </a:rPr>
              <a:t>Ed.S. Program:  Media &amp; Instructiona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University of West Geo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dividual Needs &amp; Inter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student-centric models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ntuate personal learn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ore how the mobile technology revolution is impacting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to be on the cusp of emerg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esire to grow into a transformational leader through my mentoring relationships at U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esire to use my influence to nudge people towards emerging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subscribe to the belief that anyone can learn anything at anytime from anywhere in the world through emerg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vid S. Robert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am a certified life coach and professional adult education director for a faith-based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would like to develop online learning communities in this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also aspire to develop a career in higher education in instruction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avid Close Up 2.jpg"/>
          <p:cNvPicPr/>
          <p:nvPr/>
        </p:nvPicPr>
        <p:blipFill>
          <a:blip r:embed="rId2"/>
          <a:stretch/>
        </p:blipFill>
        <p:spPr>
          <a:xfrm>
            <a:off x="914400" y="2057400"/>
            <a:ext cx="2590920" cy="1779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WOT 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ically sav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time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ger to collab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ip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d to the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WOT_Strenth.png"/>
          <p:cNvPicPr/>
          <p:nvPr/>
        </p:nvPicPr>
        <p:blipFill>
          <a:blip r:embed="rId2"/>
          <a:stretch/>
        </p:blipFill>
        <p:spPr>
          <a:xfrm>
            <a:off x="914400" y="1752480"/>
            <a:ext cx="2209680" cy="23716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WOT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ly impaired; legally 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sure to so much technology tendency to lose compe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’s rapid life cycle could make current training obso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WOT_weaknesses.png"/>
          <p:cNvPicPr/>
          <p:nvPr/>
        </p:nvPicPr>
        <p:blipFill>
          <a:blip r:embed="rId2"/>
          <a:stretch/>
        </p:blipFill>
        <p:spPr>
          <a:xfrm>
            <a:off x="990720" y="1828800"/>
            <a:ext cx="2246040" cy="23623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WOT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ky is the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ters  + Ed.S = multiple career opport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ed personal contacts in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career trajectorie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SWOT_opportunities.png"/>
          <p:cNvPicPr/>
          <p:nvPr/>
        </p:nvPicPr>
        <p:blipFill>
          <a:blip r:embed="rId2"/>
          <a:stretch/>
        </p:blipFill>
        <p:spPr>
          <a:xfrm>
            <a:off x="914400" y="1676520"/>
            <a:ext cx="2374920" cy="25146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WOT Th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384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going educational funding quest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ition of my progressive eye disease an ever-present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WOT_threats.png"/>
          <p:cNvPicPr/>
          <p:nvPr/>
        </p:nvPicPr>
        <p:blipFill>
          <a:blip r:embed="rId2"/>
          <a:stretch/>
        </p:blipFill>
        <p:spPr>
          <a:xfrm>
            <a:off x="914400" y="1676520"/>
            <a:ext cx="2438280" cy="2598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rs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ome proficient at Web 2.0 to launch Classroom 2.0 in my sphere of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 an online learning environment using open architecture tools like 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p into existing collaboration technology and exploit for educational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powerful partnerships with progressive thinkers in the area of distance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.S. Instructional Technology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n developing online courses and learn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sional development to harness technology integration in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ctional design and web site authoring skil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back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ationale for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believe blended and hybrid education is one of the most effecti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-your-pace, at-your-place” learning models will ultimately reach mor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entury skills will help students better compete in the global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1:47:30Z</dcterms:created>
  <dc:creator>David Robertson</dc:creator>
  <dc:description/>
  <dc:language>en-US</dc:language>
  <cp:lastModifiedBy>David Robertson</cp:lastModifiedBy>
  <dcterms:modified xsi:type="dcterms:W3CDTF">2011-02-22T18:33:07Z</dcterms:modified>
  <cp:revision>36</cp:revision>
  <dc:subject/>
  <dc:title>Slide 1</dc:title>
</cp:coreProperties>
</file>